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CB12-F3F1-4FCF-A2DD-F054377D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442-5A47-4500-BC29-84D9A6C6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FEE-37F0-406E-AFFD-FF280FF1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E6F-C62A-4065-9FB7-8E7A70D1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B61-95B5-4042-8E3C-475F1C5C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F44D-A5F8-4FEF-998B-3230C312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BFEB-D9BD-4CA1-8808-5182B5DD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832D-A334-40B8-8950-58E9420A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0556-7C5F-436C-82EE-F09F409D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7985-1633-4B5C-BF38-F5B36CA1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310-59BA-4CAA-837D-ED7738DB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340-65A6-4E26-9F2B-25D6E434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49CF-528F-4E9B-AA67-02FF8E565F71}" type="datetime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7701-0289-40DD-88B7-307D1EAFC2FC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Project JERRY Sprint Planning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Yang Yong Qi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 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, 28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1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6880" y="744480"/>
          <a:ext cx="8305920" cy="394200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list and menu options (Without functionality inside) after pressing Contact hard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ist address 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isplay menu options with some functions, e.g. copy, delete, a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emove or disable or hide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Java (remov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1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6880" y="744480"/>
          <a:ext cx="8305920" cy="529272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ips including sub-men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/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up Assis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Enter own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-up/power on dialo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ate and time setup (covered by Sprint 2 - Settin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UI adaption on network sel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how call setting: call barring incoming/outgoing if abroad (new ), effect in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26880" y="750960"/>
          <a:ext cx="8305920" cy="57560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list and menu options (Without functionality inside) after pressing Contact hard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rge entry in sim to contact 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mplicated functions: add reminder, sim backup w/o view 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record look and fe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lume side key, Ringer side key and lock key inv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5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inger side key in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lume side key in c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ock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5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6880" y="750960"/>
          <a:ext cx="8305920" cy="55641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een transitions (Sliding eff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liding eff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hronization including remote sync and sync with 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ML UI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ML workflow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ing tong, keypad tone, time/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isplay my number, language, change P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emplates/Draf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nified Inbox (Layou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6880" y="750960"/>
          <a:ext cx="8305920" cy="41115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contact 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new msg info table support in PIM 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orting mechan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I implementation in P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export interface (insert contact, select contact) to external appl. i.e. messaging, ID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record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6880" y="750960"/>
          <a:ext cx="8305920" cy="43844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emove or disable or hide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rda, BT (remov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mera (remov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rowser (hi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howing UI notification about accessory from connectivity (disab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usto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2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26880" y="750960"/>
          <a:ext cx="8305920" cy="328932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Key lock screen after switching the key lock hard ke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box UI (all message lis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ttings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up Assis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ML inv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new event dialog (part of Unified Inbo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26880" y="750960"/>
          <a:ext cx="8305920" cy="50133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ice call screens full 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ll call 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andling different network release co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remi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-call menu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ice mess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and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nd and rece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26880" y="750960"/>
          <a:ext cx="8305920" cy="55562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sg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get and update msg table from inbox UI/sent msg 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lete msg and delete 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MS/MMS client upd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cture mess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ssage Se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look and feel - full compl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IOS full compliance (incl. progress b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F menu full compliance (incl. progress b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26880" y="750960"/>
          <a:ext cx="8305920" cy="556740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list and menu options (Without functionality inside) after pressing Contact hard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aunch external application, e.g. Voice Messaging, SMS, c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M 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een transitions (Sliding eff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selection 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opup 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contact 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daption in mess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Resource Profile  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217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330720"/>
            <a:ext cx="8305920" cy="1326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26880" y="750960"/>
          <a:ext cx="8305920" cy="49179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emove or disable or hide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M remo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RM (disab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F Simply Alarm 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ist all alarm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usto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3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6880" y="750960"/>
          <a:ext cx="8305920" cy="50133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plit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elcome t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harging display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terruption by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paration of Call functionality from the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CSM Message Han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ial Dialog Updation Han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6880" y="750960"/>
          <a:ext cx="8305920" cy="528012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leep mode with timer 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ack to last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een saver handling in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ext Message (SM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and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nd and rece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over functionality in Contact 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mplementation by U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M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ssaging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6880" y="750960"/>
          <a:ext cx="8305920" cy="46479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F Simply Alarm 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ime/date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larm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larm tone/volume/vib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options in alarm clock, i.e. delete, a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nified Inbox Functi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nified sent mess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lete (All) wiz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26880" y="750960"/>
          <a:ext cx="8305920" cy="26654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sg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7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 between message table in PIM and message DB in AppM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usto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4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3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Current Statu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Database setup done in SISL, Beijing and AA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print 1 development in progres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SW: Yang Yong Qiang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9 years in software development Mobile phones and IS-95 CDMA Basest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Java topics in Beijing R&amp;D Center, BenQ/Siemens Mobile, incl. CLDC HI, DoJa, JSR177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SW Dorado and Libr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Feature: Hu Chun Ya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8 years in software development Mobile phon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DoJa Development in Beijing R&amp;D Center, BenQ/Siemens Mobil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BenQ Beijing Development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More than 5 years SW development experience on average, with 2 years in BenQ/Siemens Mobil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ystem Architect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Stefan Burkert (coach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Chen Mia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Development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Cui Yi (Lead)                             Lu Qi Wen (SW Arch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Song Wen Juan (SW Arch)       Yi Xiao Qiang (SE*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Zhou Tong (SE*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2 local consultan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宋体"/>
              </a:rPr>
              <a:t>-- SE* = Senior Engineer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SISL PL off-shore: Rajeev Chauha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11.5 years in software development and system testing for Mobile phones, UMTS NodeB OAM, transportation systems and protocol develop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ISL Development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ore than 5 years SW development experience on averag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Rajeev Bhatia: Architect AppMs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unisha Aggarwal: Architect AppBase/Avata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Gagan Kashyap: Architect AppBase/AppIDC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25 SW Engineers (with 2 - 11 years experience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1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53880" y="812880"/>
          <a:ext cx="8305920" cy="5538600"/>
        </p:xfrm>
        <a:graphic>
          <a:graphicData uri="http://schemas.openxmlformats.org/drawingml/2006/table">
            <a:tbl>
              <a:tblPr/>
              <a:tblGrid>
                <a:gridCol w="2492640"/>
                <a:gridCol w="2314440"/>
                <a:gridCol w="735120"/>
                <a:gridCol w="1341360"/>
                <a:gridCol w="1422360"/>
              </a:tblGrid>
              <a:tr h="70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c simu se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 hard keys simulation including blinking effect for Home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de keys sim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hanges in C_MobSIM for removing/disabling/hiding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  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-up/power on dialo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N input including error han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 basic lay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ome/Contact/Menu hard key inv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1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6880" y="744480"/>
          <a:ext cx="8305920" cy="5661000"/>
        </p:xfrm>
        <a:graphic>
          <a:graphicData uri="http://schemas.openxmlformats.org/drawingml/2006/table">
            <a:tbl>
              <a:tblPr/>
              <a:tblGrid>
                <a:gridCol w="2266920"/>
                <a:gridCol w="2374920"/>
                <a:gridCol w="911520"/>
                <a:gridCol w="133488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hone spaces, color schemes, Icons, Fo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lor scheme switching interface, define additional virtual col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ext resource define color sche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hone space color scheme switching(ID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ice call screen bas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origination, termination, call se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eadline and soft key look and fe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look and feel bas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ook and feel w/o 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oll b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/>
  <dc:description/>
  <dc:language>en-US</dc:language>
  <cp:lastModifiedBy/>
  <dcterms:modified xsi:type="dcterms:W3CDTF">2006-02-28T07:41:02Z</dcterms:modified>
  <cp:revision>212</cp:revision>
  <dc:subject/>
  <dc:title>PowerPoint</dc:title>
</cp:coreProperties>
</file>